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ACE69-AD6D-48A0-9EA8-528E4EBF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082A2-E6C4-44DA-BF98-3AC8FB29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A4109-A444-46B1-8BCB-488AEA54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A1721-C376-4833-8170-32ECEEA7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E4CAC-7D4B-48BE-9A0D-777E4518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BC248-F411-4177-9583-564E18D1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7FF61F-EB33-46C6-9041-C4EBFE86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5FE8B-547E-4C75-99CA-4075F6A4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D33A2-328E-4B7B-AC70-49ED1D13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968B2-8536-42E4-BEEA-DDC1E1AA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B2CA6-4DA4-4AAB-A101-3EDFC054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0439-3EDF-4C35-B532-64E196302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3845-B9D7-4021-8C00-73737FA14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5A1C-7046-4D95-BDB3-F5AFB58B7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5478-D32C-486C-8942-839FA5308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410F-3D67-4302-8468-DCB186D1B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7CEA-623B-4BA7-959C-1BF080A86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A5E0-57C8-453F-AE7F-53EA7EFE0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06DD-F273-4D23-B4ED-7C6BC73B8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425D-B1CD-4AA0-BD5D-56A46A2B3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2A92-2EBB-43CD-9D46-67A54FA63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85DB-20C1-4980-B79A-B9BE36003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41F9-1EE6-47E1-A726-58A25FBA9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DC500-CB46-4134-B953-60A1CF74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hyperlink" Target="http://images.amazon.com/images/P/B00005U190.01.LZZZZZZZ.jpg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blog.mlive.com/pistonsinsider/2007/11/071103-kobe-bryant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59fiftycap.files.wordpress.com/2008/10/lebron-james-biography-cover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images.amazon.com/images/P/B00005U190.01.LZZZZZZZ.jpg" TargetMode="External"/><Relationship Id="rId13" Type="http://schemas.openxmlformats.org/officeDocument/2006/relationships/image" Target="../media/image2.jpeg"/><Relationship Id="rId14" Type="http://schemas.openxmlformats.org/officeDocument/2006/relationships/hyperlink" Target="http://images.amazon.com/images/P/B00005U190.01.LZZZZZZZ.jp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images.amazon.com/images/P/B00005U190.01.LZZZZZZZ.jpg" TargetMode="External"/><Relationship Id="rId17" Type="http://schemas.openxmlformats.org/officeDocument/2006/relationships/image" Target="../media/image2.jpeg"/><Relationship Id="rId18" Type="http://schemas.openxmlformats.org/officeDocument/2006/relationships/hyperlink" Target="http://blog.mlive.com/pistonsinsider/2007/11/071103-kobe-bryant.jpg" TargetMode="External"/><Relationship Id="rId19" Type="http://schemas.openxmlformats.org/officeDocument/2006/relationships/image" Target="../media/image3.jpeg"/><Relationship Id="rId20" Type="http://schemas.openxmlformats.org/officeDocument/2006/relationships/hyperlink" Target="http://blog.mlive.com/pistonsinsider/2007/11/071103-kobe-bryant.jpg" TargetMode="External"/><Relationship Id="rId21" Type="http://schemas.openxmlformats.org/officeDocument/2006/relationships/image" Target="../media/image3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img2.timeinc.net/people/i/2007/specials/bachelors/date/bow_wow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1.jpeg"/><Relationship Id="rId10" Type="http://schemas.openxmlformats.org/officeDocument/2006/relationships/hyperlink" Target="http://images.google.com/imgres?imgurl=http://www.myfishtank.net/wordpress/wp-content/uploads/romeo-usc-basketball.jpg&amp;imgrefurl=http://www.myfishtank.net/usc-trojans-news/lil-romeo-is-playing-basketball-for-usc-trojans/&amp;usg=__2_oJ1jTXwSRNoH5uJYrE8HCWLAk=&amp;h=134&amp;w=154&amp;sz=11&amp;hl=en&amp;start=18&amp;um=1&amp;itbs=1&amp;tbnid=gEECA1eUwbkVbM:&amp;tbnh=84&amp;tbnw=96&amp;prev=/images%3Fq%3Dlil%2Bromeo%2Busc%2Bbasketball%26um%3D1%26hl%3Den%26safe%3Dstrict%26sa%3DN%26tbs%3Disch:1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1.jpeg"/><Relationship Id="rId8" Type="http://schemas.openxmlformats.org/officeDocument/2006/relationships/hyperlink" Target="http://blog.mlive.com/pistonsinsider/2007/11/071103-kobe-bryant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59fiftycap.files.wordpress.com/2008/10/lebron-james-biography-cover.jpg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images.amazon.com/images/P/B00005U190.01.LZZZZZZZ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hyperlink" Target="http://images.amazon.com/images/P/B00005U190.01.LZZZZZZZ.jpg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62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Romeo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Romeo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Rome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8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9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cuti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09480" y="6261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1219320" y="6259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ing to hang with Romeo and Benvol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2590920" y="3124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ing to meet up with Romeo and Mercut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2666880" y="39625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got back with hanging with Romeo and Benvolio. We just walked around and talked about thing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2590920" y="4876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t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’t belive what Benvolio told me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2590920" y="5562720"/>
            <a:ext cx="4495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v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ot home found out some crazy thing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52280" y="1828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152280" y="1828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905120"/>
          <a:ext cx="1524240" cy="38556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3855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ging with Benvolio and Mercutio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380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2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5780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4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257800"/>
            <a:ext cx="53352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6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143000" y="5257800"/>
            <a:ext cx="58104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2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81080" y="23623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2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2" descr="See full 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981080" y="46483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4" descr="See full 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981080" y="3124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5486400"/>
            <a:ext cx="609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23880" y="6858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89548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7339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572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4771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Mercutio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ercutio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52280" y="2882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rcuti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1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133720" y="1554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ince Escal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205740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5-8-7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erona, Ita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2133720" y="3200400"/>
            <a:ext cx="4495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ng out with girls, complain when he don’t get what he wants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 fight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cell phone, The ladies, friend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l’ Wayne, Drake, T.I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ajor League, sandlot, Dam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ltimate Fighter, ESPN, Taxes Range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 don’t rea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ilin’ with my  guy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 Monda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838080" y="6172200"/>
            <a:ext cx="8384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ust m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yesterday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reets of Veron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808) 669-8778   (text it!!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480" y="1870200"/>
          <a:ext cx="1525320" cy="565200"/>
        </p:xfrm>
        <a:graphic>
          <a:graphicData uri="http://schemas.openxmlformats.org/drawingml/2006/table">
            <a:tbl>
              <a:tblPr/>
              <a:tblGrid>
                <a:gridCol w="1525320"/>
              </a:tblGrid>
              <a:tr h="56520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eamers often lie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 Mab is my home girl!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50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5780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" descr="http://theexactly.net/wp-content/uploads/2008/03/lilromeo_195.jpg"/>
          <p:cNvPicPr/>
          <p:nvPr/>
        </p:nvPicPr>
        <p:blipFill>
          <a:blip r:embed="rId9"/>
          <a:stretch/>
        </p:blipFill>
        <p:spPr>
          <a:xfrm>
            <a:off x="0" y="3808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0" descr="http://t2.gstatic.com/images?q=tbn:gEECA1eUwbkVbM:http://www.myfishtank.net/wordpress/wp-content/uploads/romeo-usc-basketball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280" y="6058080"/>
            <a:ext cx="68580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>
            <a:hlinkClick r:id="rId3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1">
            <a:hlinkClick r:id="rId4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685800" y="1523880"/>
            <a:ext cx="58672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xt Message Conversation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 what up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not much yo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nothing muc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o! you want to hang lat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idk ill see what iam do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: ok just hit me 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utio: y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33520" y="4114800"/>
            <a:ext cx="5638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e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en vanished from Ver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33520" y="1523880"/>
            <a:ext cx="6400800" cy="2362320"/>
          </a:xfrm>
          <a:prstGeom prst="rect">
            <a:avLst/>
          </a:prstGeom>
          <a:noFill/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380880"/>
            <a:ext cx="914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0" y="1905120"/>
            <a:ext cx="9144000" cy="1447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1447920" y="2057400"/>
            <a:ext cx="5867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Rom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Bad N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are not allowed in the city no more the prince said; so what are you going to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066680" y="121932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1447920" y="3505320"/>
            <a:ext cx="60958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Esc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Bad N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 with rom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30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32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1523880" y="5181480"/>
            <a:ext cx="6096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Benv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Capulet B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0" descr="http://theexactly.net/wp-content/uploads/2008/03/lilromeo_195.jpg"/>
          <p:cNvPicPr/>
          <p:nvPr/>
        </p:nvPicPr>
        <p:blipFill>
          <a:blip r:embed="rId7"/>
          <a:stretch/>
        </p:blipFill>
        <p:spPr>
          <a:xfrm>
            <a:off x="228600" y="19810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4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525780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6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2280" y="35053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>
            <a:hlinkClick r:id="rId3" action="ppaction://hlinksldjump"/>
          </p:cNvPr>
          <p:cNvSpPr/>
          <p:nvPr/>
        </p:nvSpPr>
        <p:spPr>
          <a:xfrm>
            <a:off x="19051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2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17524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8"/>
          <p:cNvSpPr/>
          <p:nvPr/>
        </p:nvSpPr>
        <p:spPr>
          <a:xfrm>
            <a:off x="2209680" y="22096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2057400" y="18288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Romeo what happen with you today! Were you at man everybody wondering were you going to stay now. P.s. write back as soon as possi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">
            <a:hlinkClick r:id="rId3" action="ppaction://hlinksldjump"/>
          </p:cNvPr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>
            <a:hlinkClick r:id="rId4" action="ppaction://hlinksldjump"/>
          </p:cNvPr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1066680" y="1219320"/>
            <a:ext cx="838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1600200" y="1981080"/>
            <a:ext cx="64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d 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get to come back to ver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26"/>
          <p:cNvSpPr/>
          <p:nvPr/>
        </p:nvSpPr>
        <p:spPr>
          <a:xfrm>
            <a:off x="1676520" y="3886200"/>
            <a:ext cx="6400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ad 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Yea I know I don’t now what i’am going to do no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0" descr="http://theexactly.net/wp-content/uploads/2008/03/lilromeo_195.jpg"/>
          <p:cNvPicPr/>
          <p:nvPr/>
        </p:nvPicPr>
        <p:blipFill>
          <a:blip r:embed="rId5"/>
          <a:stretch/>
        </p:blipFill>
        <p:spPr>
          <a:xfrm>
            <a:off x="0" y="53352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0" descr="http://theexactly.net/wp-content/uploads/2008/03/lilromeo_195.jpg"/>
          <p:cNvPicPr/>
          <p:nvPr/>
        </p:nvPicPr>
        <p:blipFill>
          <a:blip r:embed="rId6"/>
          <a:stretch/>
        </p:blipFill>
        <p:spPr>
          <a:xfrm>
            <a:off x="304920" y="3657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2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1905120"/>
            <a:ext cx="1143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64832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96252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895480" y="0"/>
            <a:ext cx="1067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106668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x 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981080" y="121932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819520" y="121932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Upd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066680" y="1219320"/>
            <a:ext cx="914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essag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182880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y what up man. Paris is going to get married to Juliet her dad wants her to b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0" descr="http://theexactly.net/wp-content/uploads/2008/03/lilromeo_195.jpg"/>
          <p:cNvPicPr/>
          <p:nvPr/>
        </p:nvPicPr>
        <p:blipFill>
          <a:blip r:embed="rId2"/>
          <a:stretch/>
        </p:blipFill>
        <p:spPr>
          <a:xfrm>
            <a:off x="0" y="4572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http://theexactly.net/wp-content/uploads/2008/03/lilromeo_195.jpg"/>
          <p:cNvPicPr/>
          <p:nvPr/>
        </p:nvPicPr>
        <p:blipFill>
          <a:blip r:embed="rId3"/>
          <a:stretch/>
        </p:blipFill>
        <p:spPr>
          <a:xfrm>
            <a:off x="304920" y="426708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6" descr="See full size image"/>
          <p:cNvPicPr/>
          <p:nvPr/>
        </p:nvPicPr>
        <p:blipFill>
          <a:blip r:embed="rId4"/>
          <a:stretch/>
        </p:blipFill>
        <p:spPr>
          <a:xfrm>
            <a:off x="228600" y="190512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209680" y="46483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much. And dose Juliet like Paris to or is it just because her 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213082</cp:lastModifiedBy>
  <dcterms:modified xsi:type="dcterms:W3CDTF">2010-05-18T14:10:13Z</dcterms:modified>
  <cp:revision>72</cp:revision>
  <dc:subject/>
  <dc:title>Profile</dc:title>
</cp:coreProperties>
</file>